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19B5-5DCA-4FBB-828D-E23066E86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9ECC-6AA2-4B81-8C79-BAF3B7473C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550E-2F32-4790-BADB-44C593E9F9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D377-6FB8-4968-ABB8-A7593049E4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3AAA-8501-4ECA-8A00-2972BBA062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35D5-B4FD-42F6-9A5F-F0CDA31B07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3E1A-8806-41D1-BB1C-C3B98A9E6B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58B3-74E9-4F7D-BE52-56141369D4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584E-B6E8-4C7D-9534-FD2DC627EF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A4B2-9395-4B24-ADC1-86CBC73895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26B3-3F1A-4805-8FBD-F549143B40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140-48C8-4A9E-B855-023064A9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332-8E62-4300-8266-EA7A76DE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CB5-52C9-4560-9352-C4E511D3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0F7F-9189-4568-84E5-0FD71A96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8E48-AF4A-4BAE-956F-15522A87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B0D0-31B1-48D1-8151-847B71C5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F7FE-EB04-42AF-A7C9-4AA54331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92C0-32A6-41CA-A10A-46D80E31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3D50-637B-4D43-9743-8934A8B1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F31D-BD06-4285-9EA7-8E05ED59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2AB1-7E39-4D00-B90F-E3B832C3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F28-A9F3-440D-9AA7-86697147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1461-0A75-427C-AE74-AC2FBB7F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7C7C-C612-41E5-9D23-DDBE5BF7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C574-2CB5-4951-B7BC-D1AA1BA4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11C3-FA8E-429C-8DC8-8E17B0B3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D493-B091-413A-90EB-DEE53C17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2CB-D829-4782-9C79-4D50DAF4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687-878B-45EC-9C33-2DE191D3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0E5-B914-4489-B31B-D122788D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397-5908-4159-B291-35B4FF67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D44-68A7-4DA9-92FD-E7FE282A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A04-E4FB-41D4-B66F-AFDE58C4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01D-EF0C-448B-AA03-B818950C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6B1F-D836-48AE-BBF7-882BF7316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B0C1-EF56-4770-831E-865740C4CC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gislative Branch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PEN NOTE QUIZ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YOUR NOTES READY &amp; A SEPARATE SHEET OF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QUESTIONS –MULTIPLE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LETTER OF THE CORRECT 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61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9. A committee that includes members of both houses of Congress is called 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. Standing committee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. Joint committee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. Select committee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. Subcommittee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4840" y="609588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840" y="-7920"/>
            <a:ext cx="9144000" cy="753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10. Congress can not pass any laws that are in opposition to the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A. United States Constitution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B. precedents set by past 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administrations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. actions of the executive 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branch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D. laws established by the 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fifty states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67480" y="6324120"/>
            <a:ext cx="990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121760"/>
            <a:ext cx="9144000" cy="59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1.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How long is a term for a member of the Senate?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A.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2 years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B.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3 years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C.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4 years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D.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6 years</a:t>
            </a: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76320" y="313920"/>
            <a:ext cx="9144000" cy="68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Which powers of Congress are based upon the Necessary and Proper (Elastic) clause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dvanced power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Expressed power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Implied power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Reserved power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00" y="195120"/>
            <a:ext cx="9144000" cy="68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Which article of the Constitution established the legislative branch of government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rticle 1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rticle 2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rticle 3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rticle 4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692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4.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In both houses of Congress, whose job is it to persuade all members of the party to vote together on the issues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A.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Party whip</a:t>
            </a: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B.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President Pro Tempore</a:t>
            </a: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C.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Speaker of the House</a:t>
            </a: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D.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Party President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95120"/>
            <a:ext cx="9144000" cy="68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o is the President of the Senate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The Secretary of State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The Senate Majority     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Leader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The Speaker of the House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The Vice-President of the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United Stat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109440"/>
            <a:ext cx="9144000" cy="754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6. The members of both the majority and minority parties have traditionally selected committee chairpersons on the basis of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ge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Education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Geography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Seniority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640080"/>
            <a:ext cx="9144000" cy="82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7. How is the number of representatives from each state determined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. The Senate decide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. State legislators decide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. The numbers are stated in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the Constitution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. The number is based on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ensus result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5800" y="5562360"/>
            <a:ext cx="777240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04920"/>
            <a:ext cx="10972800" cy="76201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240"/>
            <a:ext cx="9144000" cy="754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8. Which of the following are the two current Senators from the state of Tennessee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A. Zach Wamp and Bob Corker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B. Lamar Alexander and Bob 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orker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. Bill Frist and Lamar 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Alexander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D. Daniel Radcliff and Rupert 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Grint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66294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09-27T15:33:41Z</dcterms:modified>
  <cp:revision>120</cp:revision>
  <dc:subject/>
  <dc:title>D/O: TO EXPLAIN AND IDENTIFY PROBLEMS OF ECONOMICS</dc:title>
</cp:coreProperties>
</file>